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7D3-40FC-41E0-8CCD-549B7F4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FAA-31D2-4DF1-9475-51D299E7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744-3F7F-4979-B243-D5AC0D9B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1BC-1B24-454C-8616-A740A118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56B-F045-43B6-8E2E-17FF7D9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6C0-CB04-45DB-8899-714BEC36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2F6-F105-47D9-9092-49BBBD7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132-449B-4038-ACF9-000D14D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EC6-8152-41E1-BB09-35074E71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3BA-0B51-429C-8C07-7FBCF54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D7E-7194-4FC5-92E8-0F0BD4C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8FB-0FF8-42CA-98F2-44CA32C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743-F2DF-406C-AEAC-0C26E620E7A2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l-GR" sz="5400" spc="-1" strike="noStrike" baseline="30000">
                <a:solidFill>
                  <a:srgbClr val="000000"/>
                </a:solidFill>
                <a:latin typeface="Calibri"/>
              </a:rPr>
              <a:t>ο</a:t>
            </a:r>
            <a:r>
              <a:rPr b="1" lang="el-GR" sz="5400" spc="-1" strike="noStrike">
                <a:solidFill>
                  <a:srgbClr val="000000"/>
                </a:solidFill>
                <a:latin typeface="Calibri"/>
              </a:rPr>
              <a:t> ΠΕΚ ΑΘΗΝΑΣ     </a:t>
            </a:r>
            <a:br>
              <a:rPr sz="5400"/>
            </a:br>
            <a:r>
              <a:rPr b="1" lang="el-GR" sz="5400" spc="-1" strike="noStrike">
                <a:solidFill>
                  <a:srgbClr val="000000"/>
                </a:solidFill>
                <a:latin typeface="Calibri"/>
              </a:rPr>
              <a:t>Κ. Καφετζόπουλος Ενότητα 3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 u="sng">
                <a:solidFill>
                  <a:srgbClr val="000000"/>
                </a:solidFill>
                <a:uFillTx/>
                <a:latin typeface="Calibri"/>
              </a:rPr>
              <a:t>Προγραμματισμός και οργάνωση διδακτέας ύλη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305A-E33A-4026-974E-863F50693C6C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Πίνακα με τα όργανα και τα υλικά για κάθε δραστηριότητα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Εργασίες εμπέδωσ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Ένθετα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Εργαστηριακή άσκηση μαθητώ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Εναλλακτική πρόταση του μαθή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Φύλλο εργασίας για τη Δραστηριότητα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Φύλλο αξιολόγησ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Calibri"/>
              </a:rPr>
              <a:t>Ελληνική, ξένη και ηλεκτρονική  βιβλιογραφ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5DD-0CA7-4250-8356-8ABC82CA163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Στοιχεία «καλής διδασκαλίας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Επάρκεια εκπαιδευτικού (Γνώση του αντικειμένου και του Αναλυτικού Προγράμματο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ρογραμματισμός (βραχυπρόθεσμο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ρογραμματισμός (μακροπρόθεσμος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Σύνδεση με τους στόχους του Αναλυτικού Προγράμμα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47E-099C-4C5C-84E9-095B7223706B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Ανάπτυξη του μαθήματος με σαφή μαθησιακά βήματα (διαβαθμισμένη δομή, έλεγχος κατανόησης, σύνδεση με τους στόχους, επισήμανση κύριων στοιχείων μαθήματο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Σύνδεση αποκτημένων γνώσεων με την κοινων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Ευελιξία στη διδακτική πρακτική-εναλλακτικές διαδρομέ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ΟΠΟΥΛΟΣ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568-BF0F-42CF-99F8-D51CF15F086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Αξιοποίηση του διδακτικού χρόν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Αξιοποίηση των εποπτικών μέσων και ΤΠ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Υιοθέτηση καινοτομ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Σωστή διαχείριση και αξιοποίηση των εργασ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57F-6CF7-4110-B292-38BD5BD759CA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οιότητα μάθησης (Συνεργασία με μαθητές, Διάλογος, ενεργοποίηση, ενθάρρυνση, ποικιλία μεθόδων προσέγγισης νέας γνώσης, προώθηση ομαδικής εργασίας, ενίσχυση υπευθυνότητας, παιδαγωγική αντιμετώπιση μαθησιακών δυσκολιώ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96D-983A-45B8-B797-9FEF14FF38A0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αιδαγωγικό κλίμα της τάξ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Αξιολόγηση μαθητώ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ωχ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Άλλο στοιχείο για ένα καλό μάθημα;;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3.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A657-0FDB-4B8F-A80E-66DFC8941576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Τι μπορεί να περιέχει μια πρόταση σχεδίου μαθήματος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Μια πρόταση σχεδιασμού της διδασκαλίας μιας διδακτικής ενότητας </a:t>
            </a:r>
            <a:r>
              <a:rPr b="1" lang="el-GR" sz="3200" spc="-1" strike="noStrike" u="sng">
                <a:solidFill>
                  <a:srgbClr val="000000"/>
                </a:solidFill>
                <a:uFillTx/>
                <a:latin typeface="Calibri"/>
              </a:rPr>
              <a:t>μπορεί να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 περιλαμβάνε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0CE-FB62-4860-B077-536B4668F661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Τίτλο  της γενικής ενότητας (κεφαλαίου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Τίτλο της διδακτικής ενότητας (ή ενοτήτω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ροβλεπόμενες διδακτικές ώρες (χρόνο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Διδακτικούς στόχου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Βασικές ιδέες του μαθήμα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784-E57A-4854-BAB8-0ED9187E129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Eννοιολογικές δυσκολίε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Πειράματα επίδειξη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Εποπτικό υλικό διδασκαλία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Ερεθίσματα για τη διδασκαλ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Δραστηριότητες των μαθητών (πείραμα με απλά, συνήθως, μέσα και ιδιοκατασκευέ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- Θέση ημερομηνίας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11/9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- Θέση υποσέλιδου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Κ ΚΑΦΕΤΖ ΠΡΟΓΡΑΜΜΑΤΙΣΜΟ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- Θέση αριθμού διαφάνειας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015-AFEB-4BCA-84DC-BB5D5832A894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36:36Z</dcterms:created>
  <dc:creator>κκ</dc:creator>
  <dc:description/>
  <dc:language>en-US</dc:language>
  <cp:lastModifiedBy>κκ</cp:lastModifiedBy>
  <dcterms:modified xsi:type="dcterms:W3CDTF">2012-09-11T06:29:22Z</dcterms:modified>
  <cp:revision>2</cp:revision>
  <dc:subject/>
  <dc:title>3ο ΠΕΚ ΑΘΗΝΑΣ      Κ. Καφετζόπουλος Ενότητα 3α</dc:title>
</cp:coreProperties>
</file>